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D163-DDAB-4B76-851E-08FFF5A9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1B80-E9FB-4174-8D3C-9C25902A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AF01-C003-4C21-B4C8-F88B1251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EC4F-5719-4CB9-881C-5875BFAC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BB10-72B2-4BBC-8513-9C68C8F7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C5A-1BEC-4CE3-91D9-98813F39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FAB0-0532-42A0-AAAA-53E7AF37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3CEE-A6E9-4B76-9B76-ABC48AF1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6A2-D523-4ED4-A83D-81E62A50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BA40-991F-46C6-AA47-4B28D76F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FA3-BA19-4327-A6C2-733D6D6D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5548-D4B8-4857-B9C5-89CB41C5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1320-B23E-41CE-8714-E7480BA3F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18:11:39Z</dcterms:created>
  <dc:creator>jgartner</dc:creator>
  <dc:description/>
  <dc:language>en-US</dc:language>
  <cp:lastModifiedBy>jgartner</cp:lastModifiedBy>
  <dcterms:modified xsi:type="dcterms:W3CDTF">2002-10-02T20:34:13Z</dcterms:modified>
  <cp:revision>5</cp:revision>
  <dc:subject/>
  <dc:title>PowerPoint Presentation</dc:title>
</cp:coreProperties>
</file>