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1D6-D257-4E3C-BDDB-85A687E0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BE7-F392-4995-9F9C-FED65692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94A-B357-4D29-9DA8-0095A807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90C-4206-4609-BF6A-CCC736A6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725-CE12-4AE5-BAA5-78348CDE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014-F1B5-460E-8D77-391B377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8EA-6416-40BA-914C-10D34333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377-AABA-4C4D-B6BF-7B0485C4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FDE-8011-4631-ABAE-0B3996F2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BCD-AE4F-41EC-83B4-59FC31D8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704-F8CF-48D3-BCE8-1188C440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318-F52C-4CC9-A8D1-B155CD45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77B9-BAF5-4587-935C-089B386B9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8:11:39Z</dcterms:created>
  <dc:creator>jgartner</dc:creator>
  <dc:description/>
  <dc:language>en-US</dc:language>
  <cp:lastModifiedBy>jgartner</cp:lastModifiedBy>
  <dcterms:modified xsi:type="dcterms:W3CDTF">2002-10-02T20:34:13Z</dcterms:modified>
  <cp:revision>5</cp:revision>
  <dc:subject/>
  <dc:title>PowerPoint Presentation</dc:title>
</cp:coreProperties>
</file>