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466-300C-4B42-B9A3-F001B6C9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E4E-8FF2-469D-A8D0-8C8A9262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DCB-639A-46B1-8B7C-9B9A8694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D16-D69D-4A9A-BDAD-AA46E4A6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8E4-9CB4-4276-8BCC-42EB17F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CC9-BA71-442A-B3A6-07E4E4A9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1E5-9699-43EF-8742-06A7B81B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2C4-0F16-49CF-A78C-48DA98AD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F20-E98F-4EC0-9D6B-6B34D10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90D-B037-47CA-B541-92298CD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063-F78D-4F0D-BC9B-19DD2C4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AA5-B6DD-48EC-93E8-106C3BCD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CEF7-97EC-4409-A84D-264E6AE80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" y="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gartner</cp:lastModifiedBy>
  <dcterms:modified xsi:type="dcterms:W3CDTF">2003-02-24T18:27:01Z</dcterms:modified>
  <cp:revision>5</cp:revision>
  <dc:subject/>
  <dc:title>PowerPoint Presentation</dc:title>
</cp:coreProperties>
</file>