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F1F-AFEA-469E-A637-381E7198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9C4-2B43-4140-8C8C-D02DDFC9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464-24FB-4892-AF98-D506208C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9EA1-3FBA-454C-8EB6-7175D56F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EBA-D289-4CD3-9C2F-37BD3AA7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2DB-41DA-40F5-9468-312971B8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F26-7DD8-423C-8184-9192845F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AF2-9537-472A-B46B-A1A3853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64A-2A77-4E6E-886B-691F030C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9DD-3E17-4EE4-9ADE-9DCA044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090-5180-44EC-8182-822595F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706-54CD-4E04-A83F-E703F589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6A1-8342-44C0-A4D1-080E637D9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" y="144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44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" y="0"/>
          <a:ext cx="9140760" cy="685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914076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gartner</cp:lastModifiedBy>
  <dcterms:modified xsi:type="dcterms:W3CDTF">2003-02-24T18:27:01Z</dcterms:modified>
  <cp:revision>5</cp:revision>
  <dc:subject/>
  <dc:title>PowerPoint Presentation</dc:title>
</cp:coreProperties>
</file>