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145-DEA9-449A-A721-DE38A05D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E5CF-E410-438E-BE49-E7F0F1DC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EA6-ECB1-4CD7-93E4-94A9EC5A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5CE-C409-4D79-A534-E0B25D76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8761-2945-4C26-950B-B001F14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771-7916-445F-B4BE-45AAFD35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86C-E53E-4526-8A61-0947E205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CEF-5A40-4356-AE27-E092F59D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F56-A194-4E0F-81C1-1906CDA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D8B-BDE4-41A5-AD92-2299152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F3B-A495-4D4B-AB51-8187BFC6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9AF-1DE6-4B17-AE01-F7B2C1A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5447-D12E-4053-B3E2-72EED86F3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669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m2_contour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m2_contour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m2_contou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20:52:13Z</dcterms:created>
  <dc:creator>mheard</dc:creator>
  <dc:description/>
  <dc:language>en-US</dc:language>
  <cp:lastModifiedBy>jgartner</cp:lastModifiedBy>
  <dcterms:modified xsi:type="dcterms:W3CDTF">2003-02-24T18:20:27Z</dcterms:modified>
  <cp:revision>25</cp:revision>
  <dc:subject/>
  <dc:title>PowerPoint Presentation</dc:title>
</cp:coreProperties>
</file>