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2.png" ContentType="image/png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png" ContentType="image/png"/>
  <Override PartName="/ppt/media/image12.wmf" ContentType="image/x-wmf"/>
  <Override PartName="/ppt/media/image13.png" ContentType="image/png"/>
  <Override PartName="/ppt/media/image9.wmf" ContentType="image/x-wmf"/>
  <Override PartName="/ppt/media/image14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32825-55AD-46E7-ADE6-8E3D20761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26518-024C-4140-9BD8-7A2C09AAF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2BF91-3DEC-43AC-A33E-42845ED64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A0A00-9B22-4E04-B151-B434AF2EB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49211-72E7-440E-9403-25A7F46B7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D0CD9-1A0A-4AF1-A395-57792438D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D82AE-8CFB-472B-AC43-65768D024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BFEAA-9CD9-4AB9-8522-269718264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989AF-3F68-48A0-B82F-C80F566AC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4A45B-DF2F-4971-9250-3B77D261B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C0ED2-0ED0-4865-A4ED-FFACD9110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955E9-54F2-4E94-A0D9-17049C2A3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8A119-D443-42D8-A8C6-A6E5DF4B14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66960" y="1209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240" y="1440"/>
            <a:ext cx="914076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240" y="1440"/>
            <a:ext cx="914076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240" y="1440"/>
            <a:ext cx="914076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40" y="1440"/>
            <a:ext cx="914076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dm2_contour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6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dm2_contour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6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dm2_contour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1440"/>
            <a:ext cx="914076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240" y="1440"/>
            <a:ext cx="914076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240" y="1440"/>
            <a:ext cx="914076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076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240" y="0"/>
            <a:ext cx="914076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076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240" y="0"/>
            <a:ext cx="914076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23T20:52:13Z</dcterms:created>
  <dc:creator>mheard</dc:creator>
  <dc:description/>
  <dc:language>en-US</dc:language>
  <cp:lastModifiedBy>jgartner</cp:lastModifiedBy>
  <dcterms:modified xsi:type="dcterms:W3CDTF">2003-02-24T18:20:27Z</dcterms:modified>
  <cp:revision>25</cp:revision>
  <dc:subject/>
  <dc:title>PowerPoint Presentation</dc:title>
</cp:coreProperties>
</file>