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132-8219-46E2-868C-09431D6C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94F-FD18-4DA7-995C-8C0CA504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095-2625-459A-A216-6BA616DC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EDE-FF27-40D8-B598-7D1BAD7D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672-8775-4E22-89C6-8088C8B7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C48-CDA3-4842-B5DE-5190627D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9BB-3C7E-46F5-9B42-F23E31C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9C4-24B2-4C17-9417-BDAAFF0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477-FB6E-46C8-BD65-E1A1E22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51A-E34A-41E7-8517-B99E779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502-F5C3-4158-9A88-60C03B7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2B8-E776-41C9-871A-506F8B4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22C-EF71-49DB-A55F-514FC529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" y="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gartner</cp:lastModifiedBy>
  <dcterms:modified xsi:type="dcterms:W3CDTF">2003-04-18T14:53:10Z</dcterms:modified>
  <cp:revision>6</cp:revision>
  <dc:subject/>
  <dc:title>PowerPoint Presentation</dc:title>
</cp:coreProperties>
</file>