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4B7-2A31-4A30-A05C-75DB69EB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9E8-7AC8-48FA-80B0-0CF41216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52A-05FD-45C3-9140-465AE66E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E3F-5CE4-489E-8BD6-DED81005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839-1995-440B-A747-75A41441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46A-9B57-46D1-A2D6-87DBAD2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995-EF55-47E1-98E7-274181B9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A94-1D3B-4023-A7D8-3E9CBB0D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54A-B43C-4FFF-A79C-3E00E734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40A-BC6E-49E6-B1D4-32DC7EB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1EB-EB80-424C-908C-D25E943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2D2-5A0B-4C36-AAAF-13CB19CC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B60F-C6C0-4F35-BB1E-E8BC35106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" y="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gartner</cp:lastModifiedBy>
  <dcterms:modified xsi:type="dcterms:W3CDTF">2003-04-18T14:53:10Z</dcterms:modified>
  <cp:revision>6</cp:revision>
  <dc:subject/>
  <dc:title>PowerPoint Presentation</dc:title>
</cp:coreProperties>
</file>