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74B-795D-45C4-ABDE-988F0CD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9DC-E76A-4C23-A691-1AEFD60E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F7A-F1D1-48CA-AC47-F8AFADFD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E31-B012-42CE-A2B1-F0F81B10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857-D17F-4D03-B488-5DCBFBF2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232-555B-4573-81E0-B6DD5B43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17D-19B4-404E-9102-83778A31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84D-AA14-43DE-A107-CE8AAB3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7F9-5E77-4B12-8B6A-F25C55B6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C77-D825-40EA-8370-566FCD9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3F6-1EA6-4CCF-A4F2-62D1B37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5D7-7026-4EA5-B4F8-7E44521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310-5F37-402D-BD52-F3F28BE22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803680" y="126036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340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5, Weighted Mean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65744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49960" y="617220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7, Weighted Mean 0.8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733400" y="62136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74924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3340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8, Weighted Mean = 0.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-15840"/>
          <a:ext cx="9144000" cy="58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840"/>
                    <a:ext cx="914400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4924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4, Weighted Mean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82556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8, Weighted Mean = 0.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80972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6, Weighted Mean = 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67328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6, Weighted Mean = 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67328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6, Weighted Mean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5840"/>
          <a:ext cx="914400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91440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73340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8112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0, Weighted Mean = 0.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67328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2:45Z</dcterms:created>
  <dc:creator>jgartner</dc:creator>
  <dc:description/>
  <dc:language>en-US</dc:language>
  <cp:lastModifiedBy>jgartner</cp:lastModifiedBy>
  <dcterms:modified xsi:type="dcterms:W3CDTF">2003-04-23T15:38:21Z</dcterms:modified>
  <cp:revision>8</cp:revision>
  <dc:subject/>
  <dc:title>PowerPoint Presentation</dc:title>
</cp:coreProperties>
</file>