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638-5459-4973-B7EF-D6AF367E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7C0-8287-440F-AE97-3246FCC4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EF8-C54F-4954-8E36-120F3319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CF0-1293-4D23-9B49-4007809B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8E4-440F-43A3-AADA-F858D2A0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6C1-A568-4241-B2D2-D9F62257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328-2652-4FD7-948C-995585A1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62F-919C-4975-A5C7-A468F605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20F-F573-4407-AB4E-078B06EC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7ED-905D-4834-8E0B-2D477AE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D96-1F25-4A11-B8BD-284E86F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51B-E1D1-4ED8-AB15-A914324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4029-7FBF-4DB2-AD49-41D9473AA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803680" y="126036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340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5, Weighted Mean = 0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144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65744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749960" y="617220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7, Weighted Mean 0.8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733400" y="62136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74924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3340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8, Weighted Mean = 0.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-15840"/>
          <a:ext cx="9144000" cy="58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840"/>
                    <a:ext cx="914400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144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74924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4, Weighted Mean = 0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" y="144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82556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8, Weighted Mean = 0.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80972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6, Weighted Mean = 0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67328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6, Weighted Mean = 0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" y="144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67328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86, Weighted Mean = 0.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5840"/>
          <a:ext cx="9144000" cy="58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91440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73340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81120" y="6137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0, Weighted Mean = 0.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240" y="0"/>
          <a:ext cx="9140760" cy="594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673280" y="61722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an Value = 0.91, Weighted Mean = 0.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6:42:45Z</dcterms:created>
  <dc:creator>jgartner</dc:creator>
  <dc:description/>
  <dc:language>en-US</dc:language>
  <cp:lastModifiedBy>jgartner</cp:lastModifiedBy>
  <dcterms:modified xsi:type="dcterms:W3CDTF">2003-04-23T15:38:21Z</dcterms:modified>
  <cp:revision>8</cp:revision>
  <dc:subject/>
  <dc:title>PowerPoint Presentation</dc:title>
</cp:coreProperties>
</file>