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729-5D89-4BE6-93F1-E182EF9D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B50-8615-475F-BFF3-5158F8A8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29B-FD16-4A58-826A-1B78345B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9C9-1785-4891-B196-9211C1C6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0EA-E5B8-4F98-A8B6-B210045F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270-DBA8-4DF1-B5B0-BF57474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5B2-8858-4C49-97DE-43A406B3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6C8-60AC-4E0E-A75C-6C18065A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E91-0983-4556-8394-54D0955D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CAF-A762-4E70-8465-D3130ACD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97B-C3F9-4750-BEF0-365589C9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C41-4D18-4A5D-809E-D855DBB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3B15-E9A3-4A7E-8F73-009D6741D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11160"/>
          <a:ext cx="9144000" cy="681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60"/>
                    <a:ext cx="9144000" cy="68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8:29:29Z</dcterms:created>
  <dc:creator>jgartner</dc:creator>
  <dc:description/>
  <dc:language>en-US</dc:language>
  <cp:lastModifiedBy>jgartner</cp:lastModifiedBy>
  <dcterms:modified xsi:type="dcterms:W3CDTF">2004-04-12T14:33:16Z</dcterms:modified>
  <cp:revision>8</cp:revision>
  <dc:subject/>
  <dc:title>PowerPoint Presentation</dc:title>
</cp:coreProperties>
</file>