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EE16-3D46-4124-A31A-80B5104D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0E7C-D8C6-42FE-B388-9D76A756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309E-1EB3-47A8-B748-FA710C9E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0ABB-D864-4B6B-8476-5093BEED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C017-6FDF-4C97-82A3-9421CB81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0128-E12D-48E6-98F5-819AEBA8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4043-6DC9-4EDE-B835-D452C372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1980-06E9-448E-AC75-5C7E4980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CF54-2ED4-44D3-BA78-D016BE06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1737-7CA7-4A93-AA23-093317F3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F2A3-23DA-4496-AF91-4627E2F0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45E7-D53C-466A-95C3-2C481F87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6CAC-8324-4603-9157-7DF8160FF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3726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72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11160"/>
          <a:ext cx="9144000" cy="681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160"/>
                    <a:ext cx="9144000" cy="68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8:29:29Z</dcterms:created>
  <dc:creator>jgartner</dc:creator>
  <dc:description/>
  <dc:language>en-US</dc:language>
  <cp:lastModifiedBy>jgartner</cp:lastModifiedBy>
  <dcterms:modified xsi:type="dcterms:W3CDTF">2004-04-12T14:33:16Z</dcterms:modified>
  <cp:revision>8</cp:revision>
  <dc:subject/>
  <dc:title>PowerPoint Presentation</dc:title>
</cp:coreProperties>
</file>