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235-6A59-4A4E-BA9A-FA6CF83A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6A6-AF68-4B89-8474-84064117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C1F-6147-4242-BBA8-E72ED111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0F3-7A72-4D69-B11C-5DF0BF66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781-8F23-4205-B8CC-5C086912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F5B-702B-46A1-8463-5D17E337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B6E-C3F8-4DFC-B321-37485CA3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925-C4EB-402E-A731-0853770E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6F6-6FB9-4DDB-9D67-2D70AE74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580-FE37-49DF-B92A-8635A268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1F7-1CCC-445D-8EFF-4D3EC0FB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B1A-A6A7-4931-AAC7-2A69DDB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E4CC-34DE-404C-995A-430274FDE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vi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ll_leg" descr=""/>
          <p:cNvPicPr/>
          <p:nvPr/>
        </p:nvPicPr>
        <p:blipFill>
          <a:blip r:embed="rId2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51 -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533520"/>
            <a:chOff x="0" y="0"/>
            <a:chExt cx="9144000" cy="533520"/>
          </a:xfrm>
        </p:grpSpPr>
        <p:pic>
          <p:nvPicPr>
            <p:cNvPr id="44" name="key_color_gre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572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572000" y="0"/>
              <a:ext cx="4572000" cy="533520"/>
            </a:xfrm>
            <a:prstGeom prst="rect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5640" y="6335640"/>
            <a:ext cx="2163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48" name="route2_legend" descr=""/>
            <p:cNvPicPr/>
            <p:nvPr/>
          </p:nvPicPr>
          <p:blipFill>
            <a:blip r:embed="rId4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53" name="districts2_leg" descr=""/>
            <p:cNvPicPr/>
            <p:nvPr/>
          </p:nvPicPr>
          <p:blipFill>
            <a:blip r:embed="rId5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ist_194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31 - 19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61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2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66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70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dist_195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41 - 1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74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5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79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83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st_196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51 - 19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87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92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96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dist_197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61 - 1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route2_legend" descr=""/>
          <p:cNvPicPr/>
          <p:nvPr/>
        </p:nvPicPr>
        <p:blipFill>
          <a:blip r:embed="rId3"/>
          <a:stretch/>
        </p:blipFill>
        <p:spPr>
          <a:xfrm>
            <a:off x="264960" y="5160960"/>
            <a:ext cx="160992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216720" y="538812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istoric Tr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600" y="560088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jor Railroa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7440" y="58132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jor Highw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districts2_leg" descr=""/>
          <p:cNvPicPr/>
          <p:nvPr/>
        </p:nvPicPr>
        <p:blipFill>
          <a:blip r:embed="rId4"/>
          <a:stretch/>
        </p:blipFill>
        <p:spPr>
          <a:xfrm>
            <a:off x="4313160" y="1523880"/>
            <a:ext cx="4343400" cy="1219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720680" y="2347920"/>
            <a:ext cx="23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real extent of district bound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97920" y="189216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ning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207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dist_198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71 -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211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2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216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220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dist_199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81 -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224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25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229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233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dist_1995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91 -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237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8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242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246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1801800"/>
            <a:ext cx="7772400" cy="3333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Button to Return to Movie M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4049640" y="3581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ist_186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51 - 1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59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64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25640" y="6335640"/>
            <a:ext cx="2163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Rounded MT Bold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full_leg" descr=""/>
          <p:cNvPicPr/>
          <p:nvPr/>
        </p:nvPicPr>
        <p:blipFill>
          <a:blip r:embed="rId5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dist_187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61 - 18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72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77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81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dist_188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71 - 18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85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6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90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94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dist_189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81 - 18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98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9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03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07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st_190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891 - 1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11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2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16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dist_191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01 - 19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24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5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29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33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ist_192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11 - 19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route2_legend" descr=""/>
          <p:cNvPicPr/>
          <p:nvPr/>
        </p:nvPicPr>
        <p:blipFill>
          <a:blip r:embed="rId3"/>
          <a:stretch/>
        </p:blipFill>
        <p:spPr>
          <a:xfrm>
            <a:off x="264960" y="5160960"/>
            <a:ext cx="160992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16720" y="538812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istoric Tr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600" y="560088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jor Railroa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7440" y="58132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jor Highwa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districts2_leg" descr=""/>
          <p:cNvPicPr/>
          <p:nvPr/>
        </p:nvPicPr>
        <p:blipFill>
          <a:blip r:embed="rId4"/>
          <a:stretch/>
        </p:blipFill>
        <p:spPr>
          <a:xfrm>
            <a:off x="4313160" y="1523880"/>
            <a:ext cx="4343400" cy="1219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20680" y="2347920"/>
            <a:ext cx="23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real extent of district bound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97920" y="189216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ning Distri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44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dist_1930" descr=""/>
          <p:cNvPicPr/>
          <p:nvPr/>
        </p:nvPicPr>
        <p:blipFill>
          <a:blip r:embed="rId2"/>
          <a:stretch/>
        </p:blipFill>
        <p:spPr>
          <a:xfrm>
            <a:off x="-347760" y="-152280"/>
            <a:ext cx="9839520" cy="7162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4520" y="609480"/>
            <a:ext cx="4038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Mining Districts 1921 - 19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6720" y="5160960"/>
            <a:ext cx="1658160" cy="1000080"/>
            <a:chOff x="216720" y="5160960"/>
            <a:chExt cx="1658160" cy="1000080"/>
          </a:xfrm>
        </p:grpSpPr>
        <p:pic>
          <p:nvPicPr>
            <p:cNvPr id="148" name="route2_legend" descr=""/>
            <p:cNvPicPr/>
            <p:nvPr/>
          </p:nvPicPr>
          <p:blipFill>
            <a:blip r:embed="rId3"/>
            <a:stretch/>
          </p:blipFill>
          <p:spPr>
            <a:xfrm>
              <a:off x="264960" y="5160960"/>
              <a:ext cx="1609920" cy="1000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9" name=""/>
            <p:cNvSpPr/>
            <p:nvPr/>
          </p:nvSpPr>
          <p:spPr>
            <a:xfrm>
              <a:off x="216720" y="5388120"/>
              <a:ext cx="973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Historic Tr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600" y="5600880"/>
              <a:ext cx="1087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Railroa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7440" y="5813280"/>
              <a:ext cx="109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jor Highway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313160" y="1523880"/>
            <a:ext cx="4343400" cy="1219320"/>
            <a:chOff x="4313160" y="1523880"/>
            <a:chExt cx="4343400" cy="1219320"/>
          </a:xfrm>
        </p:grpSpPr>
        <p:pic>
          <p:nvPicPr>
            <p:cNvPr id="153" name="districts2_leg" descr=""/>
            <p:cNvPicPr/>
            <p:nvPr/>
          </p:nvPicPr>
          <p:blipFill>
            <a:blip r:embed="rId4"/>
            <a:stretch/>
          </p:blipFill>
          <p:spPr>
            <a:xfrm>
              <a:off x="4313160" y="1523880"/>
              <a:ext cx="434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20680" y="2347920"/>
              <a:ext cx="23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real extent of district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98280" y="1892160"/>
              <a:ext cx="18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Mining Distric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" name="sm_key_color_black" descr=""/>
          <p:cNvPicPr/>
          <p:nvPr/>
        </p:nvPicPr>
        <p:blipFill>
          <a:blip r:embed="rId5"/>
          <a:stretch/>
        </p:blipFill>
        <p:spPr>
          <a:xfrm>
            <a:off x="257040" y="6353280"/>
            <a:ext cx="5486400" cy="365040"/>
          </a:xfrm>
          <a:prstGeom prst="rect">
            <a:avLst/>
          </a:prstGeom>
          <a:ln w="0">
            <a:noFill/>
          </a:ln>
        </p:spPr>
      </p:pic>
      <p:pic>
        <p:nvPicPr>
          <p:cNvPr id="157" name="full_leg" descr=""/>
          <p:cNvPicPr/>
          <p:nvPr/>
        </p:nvPicPr>
        <p:blipFill>
          <a:blip r:embed="rId6"/>
          <a:stretch/>
        </p:blipFill>
        <p:spPr>
          <a:xfrm>
            <a:off x="4343400" y="3316320"/>
            <a:ext cx="4267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20:11:45Z</dcterms:created>
  <dc:creator>Lorre Moyer</dc:creator>
  <dc:description/>
  <dc:language>en-US</dc:language>
  <cp:lastModifiedBy>Lorre Moyer</cp:lastModifiedBy>
  <dcterms:modified xsi:type="dcterms:W3CDTF">2003-12-15T23:12:41Z</dcterms:modified>
  <cp:revision>22</cp:revision>
  <dc:subject/>
  <dc:title>PowerPoint Presentation</dc:title>
</cp:coreProperties>
</file>