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357-F690-4F0E-8335-D11C0FB0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738-1B34-4CE1-BA8F-54DC051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129-A01C-4D7B-AEEC-90E615F6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C94-744A-48B7-8CD2-FBEF5152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94B-A88C-4175-85CE-4698E0D7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F60-2E3D-46EC-A4EC-A6CBD35A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849-E202-4CB6-B254-63644355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B92-6ABA-43CE-BD8A-A0642668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3DF-7C3D-46B3-8445-46CF548E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893-2B0B-42A3-9B2D-F744FBE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E13-7F95-4ECB-A851-8D3FECC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F6C-72FA-4B70-A5D9-AD2150CB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199E-8880-4631-861A-108C47FC6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vi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ll_leg" descr=""/>
          <p:cNvPicPr/>
          <p:nvPr/>
        </p:nvPicPr>
        <p:blipFill>
          <a:blip r:embed="rId2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51 -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33520"/>
            <a:chOff x="0" y="0"/>
            <a:chExt cx="9144000" cy="533520"/>
          </a:xfrm>
        </p:grpSpPr>
        <p:pic>
          <p:nvPicPr>
            <p:cNvPr id="44" name="key_color_gre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572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572000" y="0"/>
              <a:ext cx="4572000" cy="533520"/>
            </a:xfrm>
            <a:prstGeom prst="rect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5640" y="6335640"/>
            <a:ext cx="216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48" name="route2_legend" descr=""/>
            <p:cNvPicPr/>
            <p:nvPr/>
          </p:nvPicPr>
          <p:blipFill>
            <a:blip r:embed="rId4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53" name="districts2_leg" descr=""/>
            <p:cNvPicPr/>
            <p:nvPr/>
          </p:nvPicPr>
          <p:blipFill>
            <a:blip r:embed="rId5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ist_194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31 - 19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61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2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66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70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dist_195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41 - 1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74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5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79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83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st_196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51 - 1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87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92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96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dist_197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61 - 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route2_legend" descr=""/>
          <p:cNvPicPr/>
          <p:nvPr/>
        </p:nvPicPr>
        <p:blipFill>
          <a:blip r:embed="rId3"/>
          <a:stretch/>
        </p:blipFill>
        <p:spPr>
          <a:xfrm>
            <a:off x="264960" y="5160960"/>
            <a:ext cx="160992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216720" y="538812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istoric Tr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600" y="560088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jor Railroa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7440" y="58132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jor Highw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districts2_leg" descr=""/>
          <p:cNvPicPr/>
          <p:nvPr/>
        </p:nvPicPr>
        <p:blipFill>
          <a:blip r:embed="rId4"/>
          <a:stretch/>
        </p:blipFill>
        <p:spPr>
          <a:xfrm>
            <a:off x="4313160" y="1523880"/>
            <a:ext cx="4343400" cy="1219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720680" y="2347920"/>
            <a:ext cx="23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real extent of district bound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97920" y="189216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ning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207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dist_198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71 -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211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2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216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220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dist_199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81 -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224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5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229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233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dist_1995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91 -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237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8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242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246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1801800"/>
            <a:ext cx="7772400" cy="3333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Button to Return to Movie M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4049640" y="3581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st_186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51 - 1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59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64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25640" y="6335640"/>
            <a:ext cx="216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full_leg" descr=""/>
          <p:cNvPicPr/>
          <p:nvPr/>
        </p:nvPicPr>
        <p:blipFill>
          <a:blip r:embed="rId5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ist_187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61 - 18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72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77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81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dist_188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71 - 18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85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90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94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dist_189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81 - 18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98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03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07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st_190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91 - 1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11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2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16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dist_191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01 - 19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24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29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33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ist_192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11 - 19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route2_legend" descr=""/>
          <p:cNvPicPr/>
          <p:nvPr/>
        </p:nvPicPr>
        <p:blipFill>
          <a:blip r:embed="rId3"/>
          <a:stretch/>
        </p:blipFill>
        <p:spPr>
          <a:xfrm>
            <a:off x="264960" y="5160960"/>
            <a:ext cx="160992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16720" y="538812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istoric Tr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600" y="560088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jor Railroa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7440" y="58132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jor Highw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districts2_leg" descr=""/>
          <p:cNvPicPr/>
          <p:nvPr/>
        </p:nvPicPr>
        <p:blipFill>
          <a:blip r:embed="rId4"/>
          <a:stretch/>
        </p:blipFill>
        <p:spPr>
          <a:xfrm>
            <a:off x="4313160" y="1523880"/>
            <a:ext cx="4343400" cy="121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20680" y="2347920"/>
            <a:ext cx="23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real extent of district bound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97920" y="189216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ning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44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dist_193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21 - 19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48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9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53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57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20:11:45Z</dcterms:created>
  <dc:creator>Lorre Moyer</dc:creator>
  <dc:description/>
  <dc:language>en-US</dc:language>
  <cp:lastModifiedBy>Lorre Moyer</cp:lastModifiedBy>
  <dcterms:modified xsi:type="dcterms:W3CDTF">2003-12-15T23:12:41Z</dcterms:modified>
  <cp:revision>22</cp:revision>
  <dc:subject/>
  <dc:title>PowerPoint Presentation</dc:title>
</cp:coreProperties>
</file>